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71DBA-D7CA-42D9-85A0-244DD4299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749B-5E10-4CC4-8BC4-3393C96C0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20BAB-46FE-40A0-A3D8-7D2D57B16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E6F03-AB86-4B7F-B572-785169FDE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4C7A5-4290-438C-A126-B3F03CA2F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57EE3-7B89-46CC-AFBF-17BACD1C7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AA850-86CF-49E6-A03E-B6636F800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03A49-BE10-42D4-8A19-5D4F3376D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7B240-AB59-4DF4-898E-91D4EB257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30D6-6116-4A9E-9CAB-0F430EFC5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EB50-5309-461F-8D1A-A46006E99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E5E89-B3B6-443C-969D-9DEEB2A7D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EF02-951E-4E3F-A0F4-6827EBBB6DB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fcf">
            <a:alpha val="59000"/>
          </a:srgbClr>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692280"/>
            <a:ext cx="7777080" cy="494640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ggregate Demand</a:t>
            </a:r>
            <a:endParaRPr b="0" lang="en-US" sz="4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rPr>
              <a:t>IB Economics Chapter 14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8920" y="189000"/>
            <a:ext cx="5545080" cy="6480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Monetary Policy</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 consumption and investment are important parts of the AD identity</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re is a decrease in either AD will fall (growth will fall)</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re is an increase in either AD will increase (growth will increase)</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why Monetary Policy is such an important macroeconomic tool</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terest rates increase both C and I should decrease</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terest rates decrease both C and I should increase</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the amount of change in AD is dependent on confidence in the economy and the size of the multiplier (we will learn more about this later)</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via the central bank) can use interest rates to control inflation and influence growth</a:t>
            </a:r>
            <a:endParaRPr b="0" lang="en-US" sz="24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1" descr=""/>
          <p:cNvPicPr/>
          <p:nvPr/>
        </p:nvPicPr>
        <p:blipFill>
          <a:blip r:embed="rId1"/>
          <a:stretch/>
        </p:blipFill>
        <p:spPr>
          <a:xfrm>
            <a:off x="5592600" y="2214720"/>
            <a:ext cx="3654720" cy="273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8000" y="115920"/>
            <a:ext cx="8856720" cy="6121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rPr>
              <a:t>Factors that affect Aggregate Demand (determinants of Aggregate demand) – </a:t>
            </a:r>
            <a:r>
              <a:rPr b="1" lang="en-US" sz="2800" spc="-1" strike="noStrike">
                <a:solidFill>
                  <a:srgbClr val="ff0000"/>
                </a:solidFill>
                <a:latin typeface="Calibri"/>
              </a:rPr>
              <a:t>Government Spending (G)</a:t>
            </a:r>
            <a:endParaRPr b="0" lang="en-US" sz="28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pending is spending on public and merit goods and local government services </a:t>
            </a:r>
            <a:endParaRPr b="0" lang="en-US" sz="24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 the last 50 years UK government spending has reduced as firms have been privatised.</a:t>
            </a:r>
            <a:endParaRPr b="0" lang="en-US" sz="24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s have also reduced their spending to reduce taxation and their levels of borrowing</a:t>
            </a:r>
            <a:endParaRPr b="0" lang="en-US" sz="24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ncrease in government spending will shift the AD curve to the right</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decrease will shift the curve to the left</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 the last 5 years government spending has began to increase (in the UK). </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spending can have a large multiplier effect (explained later) </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government spending might mean more borrowing if there is not enough tax revenue</a:t>
            </a:r>
            <a:endParaRPr b="0" lang="en-US" sz="26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9280" y="188640"/>
            <a:ext cx="8785440" cy="66690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Factors that affect Aggregate Demand (determinants of Aggregate demand) – </a:t>
            </a:r>
            <a:r>
              <a:rPr b="1" lang="en-US" sz="2400" spc="-1" strike="noStrike">
                <a:solidFill>
                  <a:srgbClr val="ff0000"/>
                </a:solidFill>
                <a:latin typeface="Calibri"/>
              </a:rPr>
              <a:t>Net Exports (X – M)</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K exports depend on demand from other countries</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other trading countries are growing there will be an AD shift to the right</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other trading countries are in recession there will be an AD shift to the lef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orts and Imports are affected by the value of the pound sterling</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sterling falls in value against the Euro UK exports will be cheaper in Europe, sales should increase and the AD will shift to the right</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sterling increases in value UK exports will become more expensive, sales should decrease and the AD will shift to the righ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UK economy is growing and incomes are rising consumers may spend more on imports shifting the AD curve to the left (because there is less demand for domestic goods)</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 value of sterling rises imports will appear cheaper and consumers will purchase more cheap imports – AD curve shift to the lef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539280" y="188640"/>
            <a:ext cx="7921800" cy="611964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Learning Objective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he end of this chapter you will be able to </a:t>
            </a:r>
            <a:endParaRPr b="0" lang="en-US" sz="3200" spc="-1" strike="noStrike">
              <a:solidFill>
                <a:srgbClr val="000000"/>
              </a:solidFill>
              <a:latin typeface="Calibri"/>
            </a:endParaRPr>
          </a:p>
          <a:p>
            <a:pPr lvl="1" marL="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the meaning of aggregate demand</a:t>
            </a:r>
            <a:endParaRPr b="0" lang="en-US" sz="2800" spc="-1" strike="noStrike">
              <a:solidFill>
                <a:srgbClr val="000000"/>
              </a:solidFill>
              <a:latin typeface="Calibri"/>
            </a:endParaRPr>
          </a:p>
          <a:p>
            <a:pPr lvl="1" marL="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that aggregate demand can change if any of the components of                C + I + G + (X – M) change</a:t>
            </a:r>
            <a:endParaRPr b="0" lang="en-US" sz="2800" spc="-1" strike="noStrike">
              <a:solidFill>
                <a:srgbClr val="000000"/>
              </a:solidFill>
              <a:latin typeface="Calibri"/>
            </a:endParaRPr>
          </a:p>
          <a:p>
            <a:pPr lvl="1" marL="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what causes shifts in aggregate demand </a:t>
            </a:r>
            <a:endParaRPr b="0" lang="en-US" sz="2800" spc="-1" strike="noStrike">
              <a:solidFill>
                <a:srgbClr val="000000"/>
              </a:solidFill>
              <a:latin typeface="Calibri"/>
            </a:endParaRPr>
          </a:p>
          <a:p>
            <a:pPr lvl="1" marL="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how to use aggregate demand diagra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250920" y="404280"/>
            <a:ext cx="4465440" cy="576108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The meaning of aggregate demand</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we first learned about supply and demand we were talking about supply and demand within the industry or marke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now use the supply and demand curves to show supply and demand in the entire economy</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the axis are labelled slightly differently  - we have price level (instead of price) and real output (instead of quantity)</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e P still for price and Y for outpu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ith the demand curve the AD curve slopes from left to right</a:t>
            </a:r>
            <a:endParaRPr b="0" lang="en-US" sz="2400" spc="-1" strike="noStrike">
              <a:solidFill>
                <a:srgbClr val="000000"/>
              </a:solidFill>
              <a:latin typeface="Calibri"/>
            </a:endParaRPr>
          </a:p>
          <a:p>
            <a:pPr lvl="1" marL="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4" name="Picture 3" descr="scan001001"/>
          <p:cNvPicPr/>
          <p:nvPr/>
        </p:nvPicPr>
        <p:blipFill>
          <a:blip r:embed="rId1"/>
          <a:stretch/>
        </p:blipFill>
        <p:spPr>
          <a:xfrm>
            <a:off x="4572000" y="1689120"/>
            <a:ext cx="4392720" cy="366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07640" y="115560"/>
            <a:ext cx="4895640" cy="655308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99"/>
                </a:solidFill>
                <a:latin typeface="Calibri"/>
              </a:rPr>
              <a:t>The meaning of aggregate demand</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AD curve slopes down from left to right due to the following factors:</a:t>
            </a:r>
            <a:endParaRPr b="0" lang="en-US" sz="2100" spc="-1" strike="noStrike">
              <a:solidFill>
                <a:srgbClr val="000000"/>
              </a:solidFill>
              <a:latin typeface="Calibri"/>
            </a:endParaRPr>
          </a:p>
          <a:p>
            <a:pPr lvl="1" marL="45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When prices fall consumers experience a wealth effect – they feel better off and want to buy more goods or services.  More will be consumed at lower prices</a:t>
            </a:r>
            <a:endParaRPr b="0" lang="en-US" sz="2100" spc="-1" strike="noStrike">
              <a:solidFill>
                <a:srgbClr val="000000"/>
              </a:solidFill>
              <a:latin typeface="Calibri"/>
            </a:endParaRPr>
          </a:p>
          <a:p>
            <a:pPr lvl="1" marL="45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A fall in the price of UK goods lowers the price of UK exports so more will sell abroad.  Imports will become more expensive so demand for domestic goods will increase</a:t>
            </a:r>
            <a:endParaRPr b="0" lang="en-US" sz="2100" spc="-1" strike="noStrike">
              <a:solidFill>
                <a:srgbClr val="000000"/>
              </a:solidFill>
              <a:latin typeface="Calibri"/>
            </a:endParaRPr>
          </a:p>
          <a:p>
            <a:pPr lvl="1" marL="45720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Expectations – if consumers expect prices to rise in the future they will increase their consumption now but if they expect prices to fall they will buy later.</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member that movements along the curve are only caused by changes in price levels (just as before where movements along the demand curve were caused only by changes in price</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6" name="Picture 3" descr="scan001001"/>
          <p:cNvPicPr/>
          <p:nvPr/>
        </p:nvPicPr>
        <p:blipFill>
          <a:blip r:embed="rId1"/>
          <a:stretch/>
        </p:blipFill>
        <p:spPr>
          <a:xfrm>
            <a:off x="4932360" y="1989000"/>
            <a:ext cx="4032360" cy="336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scan002001"/>
          <p:cNvPicPr/>
          <p:nvPr/>
        </p:nvPicPr>
        <p:blipFill>
          <a:blip r:embed="rId1"/>
          <a:stretch/>
        </p:blipFill>
        <p:spPr>
          <a:xfrm>
            <a:off x="4859280" y="706320"/>
            <a:ext cx="3965760" cy="3171960"/>
          </a:xfrm>
          <a:prstGeom prst="rect">
            <a:avLst/>
          </a:prstGeom>
          <a:ln w="0">
            <a:noFill/>
          </a:ln>
        </p:spPr>
      </p:pic>
      <p:sp>
        <p:nvSpPr>
          <p:cNvPr id="48" name="PlaceHolder 1"/>
          <p:cNvSpPr>
            <a:spLocks noGrp="1"/>
          </p:cNvSpPr>
          <p:nvPr>
            <p:ph type="subTitle"/>
          </p:nvPr>
        </p:nvSpPr>
        <p:spPr>
          <a:xfrm>
            <a:off x="250560" y="404640"/>
            <a:ext cx="4825800" cy="583272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Shifts of the aggregate demand curve</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factor that changes aggregate demand will cause the AD curve to shift – the same as before right is more and left is less</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gregate demand is made up of </a:t>
            </a:r>
            <a:endParaRPr b="0" lang="en-US" sz="2800" spc="-1" strike="noStrike">
              <a:solidFill>
                <a:srgbClr val="000000"/>
              </a:solidFill>
              <a:latin typeface="Calibri"/>
            </a:endParaRPr>
          </a:p>
          <a:p>
            <a:pPr lvl="1" marL="45720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Consumption plus investment plus government expenditure plus net exports (exports minus imports)</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bbreviated to </a:t>
            </a:r>
            <a:endParaRPr b="0" lang="en-US" sz="2800" spc="-1" strike="noStrike">
              <a:solidFill>
                <a:srgbClr val="000000"/>
              </a:solidFill>
              <a:latin typeface="Calibri"/>
            </a:endParaRPr>
          </a:p>
          <a:p>
            <a:pPr lvl="1" marL="45720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AD = C + I + G + (X – M)</a:t>
            </a:r>
            <a:endParaRPr b="0" lang="en-US" sz="2800" spc="-1" strike="noStrike">
              <a:solidFill>
                <a:srgbClr val="000000"/>
              </a:solidFill>
              <a:latin typeface="Calibri"/>
            </a:endParaRPr>
          </a:p>
          <a:p>
            <a:pPr lvl="1" marL="4572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 name="Text Box 3"/>
          <p:cNvSpPr/>
          <p:nvPr/>
        </p:nvSpPr>
        <p:spPr>
          <a:xfrm>
            <a:off x="5651640" y="4365720"/>
            <a:ext cx="2197080" cy="1739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you use the correct annotation when drawing macro diagrams or you will lose ma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189000"/>
            <a:ext cx="8785440" cy="6192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Factors that affect Aggregate Demand (determinants of Aggregate demand) – </a:t>
            </a:r>
            <a:r>
              <a:rPr b="1" lang="en-US" sz="2400" spc="-1" strike="noStrike">
                <a:solidFill>
                  <a:srgbClr val="ff0000"/>
                </a:solidFill>
                <a:latin typeface="Calibri"/>
              </a:rPr>
              <a:t>Consumption (C)</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ption is the total spending by consumers on domestic goods and services (durable and non durable goods)</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ption (C) is probably the most important part of AD because it is often the largest part (around 60%)</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also the most volatile and least sustainable</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ision to consume is affected by a number of factors</a:t>
            </a:r>
            <a:endParaRPr b="0" lang="en-US" sz="2400" spc="-1" strike="noStrike">
              <a:solidFill>
                <a:srgbClr val="000000"/>
              </a:solidFill>
              <a:latin typeface="Calibri"/>
            </a:endParaRPr>
          </a:p>
          <a:p>
            <a:pPr>
              <a:lnSpc>
                <a:spcPct val="8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hanges in income </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incomes rise people have more to spend and therefore C will increase</a:t>
            </a:r>
            <a:endParaRPr b="0" lang="en-US" sz="2400" spc="-1" strike="noStrike">
              <a:solidFill>
                <a:srgbClr val="000000"/>
              </a:solidFill>
              <a:latin typeface="Calibri"/>
            </a:endParaRPr>
          </a:p>
          <a:p>
            <a:pPr>
              <a:lnSpc>
                <a:spcPct val="8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hanges in interest rates</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interest rates increase there is more incentive to save and C will fall</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interest rates increase the cost of borrowing increases leading to a fall in C</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countries where the majority of people own their houses rather than rent an increase in interest rates means an increase in mortgage payments which leads to less disposable income and therefore less spending (less C)</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4400640" y="1819440"/>
            <a:ext cx="4743360" cy="4170240"/>
          </a:xfrm>
          <a:prstGeom prst="rect">
            <a:avLst/>
          </a:prstGeom>
          <a:ln w="0">
            <a:noFill/>
          </a:ln>
        </p:spPr>
      </p:pic>
      <p:sp>
        <p:nvSpPr>
          <p:cNvPr id="52" name="PlaceHolder 1"/>
          <p:cNvSpPr>
            <a:spLocks noGrp="1"/>
          </p:cNvSpPr>
          <p:nvPr>
            <p:ph type="subTitle"/>
          </p:nvPr>
        </p:nvSpPr>
        <p:spPr>
          <a:xfrm>
            <a:off x="111240" y="189000"/>
            <a:ext cx="4680000" cy="6192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Factors that affect Aggregate Demand (determinants of Aggregate demand) – </a:t>
            </a:r>
            <a:r>
              <a:rPr b="1" lang="en-US" sz="2400" spc="-1" strike="noStrike">
                <a:solidFill>
                  <a:srgbClr val="ff0000"/>
                </a:solidFill>
                <a:latin typeface="Calibri"/>
              </a:rPr>
              <a:t>Consumption</a:t>
            </a:r>
            <a:endParaRPr b="0" lang="en-US" sz="2400" spc="-1" strike="noStrike">
              <a:solidFill>
                <a:srgbClr val="000000"/>
              </a:solidFill>
              <a:latin typeface="Calibri"/>
            </a:endParaRPr>
          </a:p>
          <a:p>
            <a:pPr>
              <a:lnSpc>
                <a:spcPct val="8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hanges in wealth</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house prices or the value of stocks/shares increase people will feel wealthier and therefore have a tendency to spend more (increase in C)</a:t>
            </a:r>
            <a:endParaRPr b="0" lang="en-US" sz="2400" spc="-1" strike="noStrike">
              <a:solidFill>
                <a:srgbClr val="000000"/>
              </a:solidFill>
              <a:latin typeface="Calibri"/>
            </a:endParaRPr>
          </a:p>
          <a:p>
            <a:pPr>
              <a:lnSpc>
                <a:spcPct val="8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Changes in expectations</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is probably one of the most important </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people feel that the economic future is bright they are more likely to spend or save if they think there is a chance of losing their job</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people have more disposable income it may not lead to more spending if expectations are low</a:t>
            </a: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189000"/>
            <a:ext cx="8498160" cy="6192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rPr>
              <a:t>Factors that affect Aggregate Demand (determinants of Aggregate demand) – </a:t>
            </a:r>
            <a:r>
              <a:rPr b="1" lang="en-GB" sz="2400" spc="-1" strike="noStrike">
                <a:solidFill>
                  <a:srgbClr val="ff0000"/>
                </a:solidFill>
                <a:latin typeface="Calibri"/>
              </a:rPr>
              <a:t>Investment (I)</a:t>
            </a:r>
            <a:endParaRPr b="0" lang="en-US" sz="24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vestment is defined as firms investing into capital equipment machinery and premise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decision to invest is affected by a number of factors</a:t>
            </a:r>
            <a:endParaRPr b="0" lang="en-US" sz="2200" spc="-1" strike="noStrike">
              <a:solidFill>
                <a:srgbClr val="000000"/>
              </a:solidFill>
              <a:latin typeface="Calibri"/>
            </a:endParaRPr>
          </a:p>
          <a:p>
            <a:pPr>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The rate of interest</a:t>
            </a:r>
            <a:r>
              <a:rPr b="0" lang="en-GB" sz="2200" spc="-1" strike="noStrike">
                <a:solidFill>
                  <a:srgbClr val="000000"/>
                </a:solidFill>
                <a:latin typeface="Calibri"/>
              </a:rPr>
              <a:t> (the amount firms pay to borrow money)</a:t>
            </a:r>
            <a:endParaRPr b="0" lang="en-US" sz="2200" spc="-1" strike="noStrike">
              <a:solidFill>
                <a:srgbClr val="000000"/>
              </a:solidFill>
              <a:latin typeface="Calibri"/>
            </a:endParaRPr>
          </a:p>
          <a:p>
            <a:pPr lvl="1" marL="45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If there is a fall in the rate loans will be cheaper and firms will want to invest to improve their competitive position – shift to right</a:t>
            </a:r>
            <a:endParaRPr b="0" lang="en-US" sz="2200" spc="-1" strike="noStrike">
              <a:solidFill>
                <a:srgbClr val="000000"/>
              </a:solidFill>
              <a:latin typeface="Calibri"/>
            </a:endParaRPr>
          </a:p>
          <a:p>
            <a:pPr lvl="1" marL="45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If there is a rise in the rate loans will be more expensive and firms will be less inclined to invest. – shift to left</a:t>
            </a:r>
            <a:endParaRPr b="0" lang="en-US" sz="2200" spc="-1" strike="noStrike">
              <a:solidFill>
                <a:srgbClr val="000000"/>
              </a:solidFill>
              <a:latin typeface="Calibri"/>
            </a:endParaRPr>
          </a:p>
          <a:p>
            <a:pPr>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Business Expectations</a:t>
            </a:r>
            <a:r>
              <a:rPr b="0" lang="en-GB" sz="2200" spc="-1" strike="noStrike">
                <a:solidFill>
                  <a:srgbClr val="000000"/>
                </a:solidFill>
                <a:latin typeface="Calibri"/>
              </a:rPr>
              <a:t>  - if interest rates are falling consumers will have more disposable income and therefore firms will expect sales to increase</a:t>
            </a:r>
            <a:endParaRPr b="0" lang="en-US" sz="2200" spc="-1" strike="noStrike">
              <a:solidFill>
                <a:srgbClr val="000000"/>
              </a:solidFill>
              <a:latin typeface="Calibri"/>
            </a:endParaRPr>
          </a:p>
          <a:p>
            <a:pPr lvl="1" marL="45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Positive expectations (more sales in the future) will increase the likelihood of investment – shift to right</a:t>
            </a:r>
            <a:endParaRPr b="0" lang="en-US" sz="2200" spc="-1" strike="noStrike">
              <a:solidFill>
                <a:srgbClr val="000000"/>
              </a:solidFill>
              <a:latin typeface="Calibri"/>
            </a:endParaRPr>
          </a:p>
          <a:p>
            <a:pPr lvl="1" marL="45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rial"/>
              </a:rPr>
              <a:t>Negative expectations (less sales in the future) will decrease the likelihood of investment – shift to left</a:t>
            </a:r>
            <a:endParaRPr b="0" lang="en-US" sz="2200" spc="-1" strike="noStrike">
              <a:solidFill>
                <a:srgbClr val="000000"/>
              </a:solidFill>
              <a:latin typeface="Calibri"/>
            </a:endParaRPr>
          </a:p>
          <a:p>
            <a:pPr>
              <a:lnSpc>
                <a:spcPct val="8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The rate of technical progress</a:t>
            </a:r>
            <a:r>
              <a:rPr b="0" lang="en-GB" sz="2200" spc="-1" strike="noStrike">
                <a:solidFill>
                  <a:srgbClr val="000000"/>
                </a:solidFill>
                <a:latin typeface="Calibri"/>
              </a:rPr>
              <a:t> – if firms don</a:t>
            </a:r>
            <a:r>
              <a:rPr b="0" lang="ja-JP" sz="2200" spc="-1" strike="noStrike">
                <a:solidFill>
                  <a:srgbClr val="000000"/>
                </a:solidFill>
                <a:latin typeface="Arial"/>
              </a:rPr>
              <a:t>’</a:t>
            </a:r>
            <a:r>
              <a:rPr b="0" lang="en-GB" sz="2200" spc="-1" strike="noStrike">
                <a:solidFill>
                  <a:srgbClr val="000000"/>
                </a:solidFill>
                <a:latin typeface="Calibri"/>
              </a:rPr>
              <a:t>t have state of the art (the best) equipment and there is new equipment/technology available they will want to have it so that they don</a:t>
            </a:r>
            <a:r>
              <a:rPr b="0" lang="ja-JP" sz="2200" spc="-1" strike="noStrike">
                <a:solidFill>
                  <a:srgbClr val="000000"/>
                </a:solidFill>
                <a:latin typeface="Arial"/>
              </a:rPr>
              <a:t>’</a:t>
            </a:r>
            <a:r>
              <a:rPr b="0" lang="en-GB" sz="2200" spc="-1" strike="noStrike">
                <a:solidFill>
                  <a:srgbClr val="000000"/>
                </a:solidFill>
                <a:latin typeface="Calibri"/>
              </a:rPr>
              <a:t>t lose sales to those that have it – they will invest – shift to the right</a:t>
            </a:r>
            <a:endParaRPr b="0" lang="en-US" sz="22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000" y="189000"/>
            <a:ext cx="8569440" cy="6192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Calibri"/>
              </a:rPr>
              <a:t>Factors that affect Aggregate Demand (determinants of Aggregate demand) – </a:t>
            </a:r>
            <a:r>
              <a:rPr b="1" lang="en-GB" sz="2400" spc="-1" strike="noStrike">
                <a:solidFill>
                  <a:srgbClr val="ff0000"/>
                </a:solidFill>
                <a:latin typeface="Calibri"/>
              </a:rPr>
              <a:t>Investment (continued)</a:t>
            </a:r>
            <a:endParaRPr b="0" lang="en-US" sz="2400" spc="-1" strike="noStrike">
              <a:solidFill>
                <a:srgbClr val="000000"/>
              </a:solidFill>
              <a:latin typeface="Calibri"/>
            </a:endParaRPr>
          </a:p>
          <a:p>
            <a:pPr>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The rate of change of income</a:t>
            </a:r>
            <a:r>
              <a:rPr b="0" lang="en-GB" sz="2400" spc="-1" strike="noStrike">
                <a:solidFill>
                  <a:srgbClr val="000000"/>
                </a:solidFill>
                <a:latin typeface="Calibri"/>
              </a:rPr>
              <a:t> – as income increases demand for goods/services will increase.  If firms are working at capacity they will need to invest to cater for the increased consumption</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Because the price of the equipment is likely to be much larger than the individual goods it produces investment expenditure will be quite a large injection into the circular flow</a:t>
            </a:r>
            <a:endParaRPr b="0" lang="en-US" sz="2400" spc="-1" strike="noStrike">
              <a:solidFill>
                <a:srgbClr val="000000"/>
              </a:solidFill>
              <a:latin typeface="Calibri"/>
            </a:endParaRPr>
          </a:p>
          <a:p>
            <a:pPr lvl="2" marL="9144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auses shift of AD curve to the right and a multiplier effec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reaction of investment to the rate of change of income is called the </a:t>
            </a:r>
            <a:r>
              <a:rPr b="0" lang="en-GB" sz="2400" spc="-1" strike="noStrike">
                <a:solidFill>
                  <a:srgbClr val="ff0000"/>
                </a:solidFill>
                <a:latin typeface="Calibri"/>
              </a:rPr>
              <a:t>accelerator effect</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upled with the multiplier effect this could lead to sizeable fluctuations in demand</a:t>
            </a:r>
            <a:endParaRPr b="0" lang="en-US" sz="2400" spc="-1" strike="noStrike">
              <a:solidFill>
                <a:srgbClr val="000000"/>
              </a:solidFill>
              <a:latin typeface="Calibri"/>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 slowdown or fall in consumer expenditure is likely to lead to a large fall in investment that will slow the growth of the macroeconomy</a:t>
            </a:r>
            <a:endParaRPr b="0" lang="en-US" sz="24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Text Box 3"/>
          <p:cNvSpPr/>
          <p:nvPr/>
        </p:nvSpPr>
        <p:spPr>
          <a:xfrm>
            <a:off x="3059280" y="5891040"/>
            <a:ext cx="5616360" cy="9169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r tip: Investment is a demand side factor that will initially shift aggregate demand but in the long term is should also increase aggregate supp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8:30:03Z</dcterms:created>
  <dc:creator>Rom</dc:creator>
  <dc:description/>
  <dc:language>en-US</dc:language>
  <cp:lastModifiedBy>Julia</cp:lastModifiedBy>
  <dcterms:modified xsi:type="dcterms:W3CDTF">2015-07-07T12:09:05Z</dcterms:modified>
  <cp:revision>16</cp:revision>
  <dc:subject/>
  <dc:title>Slide 1</dc:title>
</cp:coreProperties>
</file>